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93F2-1F44-43B1-95AC-CC76251C7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84BC-3F2E-4274-A069-FD86DD13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8616-E1A5-4EC0-891E-35184847C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94FC-1F01-4855-8E76-35880DCC7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E9AD-E8E9-413E-BD04-1848C1A5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B805-F5D3-45D1-8517-6C766210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4428-2D05-436A-BC29-FBA726A4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73EB-1B91-4BF2-A603-94083EC0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1A64-1426-424F-ABA8-8366D30E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A04F-9600-4754-814E-7327A521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7416-5CF6-440E-9C97-AFD27D86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E1F3-9066-4C58-B1F9-254AF78D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D3FB-F734-44D1-98D3-4574B485D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m Mickiewicz „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Środki stylistycz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600200"/>
          <a:ext cx="8229600" cy="3514680"/>
        </p:xfrm>
        <a:graphic>
          <a:graphicData uri="http://schemas.openxmlformats.org/drawingml/2006/table">
            <a:tbl>
              <a:tblPr/>
              <a:tblGrid>
                <a:gridCol w="2743200"/>
                <a:gridCol w="2595600"/>
                <a:gridCol w="289080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ikła jak lekki powiew wietrzyka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ównan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ukazuje nagłe i niespodziewane zniknięcie dziewczyny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00200"/>
          <a:ext cx="8229600" cy="4332240"/>
        </p:xfrm>
        <a:graphic>
          <a:graphicData uri="http://schemas.openxmlformats.org/drawingml/2006/table">
            <a:tbl>
              <a:tblPr/>
              <a:tblGrid>
                <a:gridCol w="3035160"/>
                <a:gridCol w="2451240"/>
                <a:gridCol w="274320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łodzienie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„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…) błędny krok niesie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fora/ przenoś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pisuje smutek i zrezygnowanie chłopca widoczne w sposobie jego poruszania się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8229600" cy="3635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3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łodzieniec) „Błędnymi strzela oczyma;”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enośnia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fo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pisuje smutne spojrzenie bohatera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00200"/>
          <a:ext cx="8229600" cy="3443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ewicza piękność wytryska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enośnia/ metafo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kreśla urodę, młodość, zwinność i delikatność nimfy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1600200"/>
          <a:ext cx="8229600" cy="36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3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ko mgła lekka, tak lekkie stroj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wiały postać niebieską.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ównanie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enoś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ukazuje, że dziewczyna ma tak delikatną suknię, jakby była bez odzienia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Świtezianka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1600200"/>
          <a:ext cx="8229600" cy="3833640"/>
        </p:xfrm>
        <a:graphic>
          <a:graphicData uri="http://schemas.openxmlformats.org/drawingml/2006/table">
            <a:tbl>
              <a:tblPr/>
              <a:tblGrid>
                <a:gridCol w="3322800"/>
                <a:gridCol w="2163600"/>
                <a:gridCol w="2743200"/>
              </a:tblGrid>
              <a:tr h="118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łodzienie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„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 pięknych licach topi oczy,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enośnia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fo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pisuje zakochany wzrok strzelca, w którym widać zachwyt urodą kobiety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600200"/>
          <a:ext cx="8229600" cy="30830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tami usta 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óżane goni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żywien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pisuje piękno pierwszego pocałunku i kolor ust ukochane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ratulacje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cc"/>
                </a:solidFill>
                <a:latin typeface="Arial"/>
              </a:rPr>
              <a:t>Świetna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cc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cc00cc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cc00cc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cc00cc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cc00cc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cc00cc"/>
                </a:solidFill>
                <a:latin typeface="Arial"/>
              </a:rPr>
              <a:t>robota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a dobry początek </a:t>
            </a:r>
            <a:r>
              <a:rPr b="0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MA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P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NÓWAON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3298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łopiec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iękny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łody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kreśla urodę i wiek młodzieńca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3629160"/>
        </p:xfrm>
        <a:graphic>
          <a:graphicData uri="http://schemas.openxmlformats.org/drawingml/2006/table">
            <a:tbl>
              <a:tblPr/>
              <a:tblGrid>
                <a:gridCol w="2743200"/>
                <a:gridCol w="2451240"/>
                <a:gridCol w="303516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ziewczyna) „Jak mokry jaskier wschodzi na bagnie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ównan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ukazuje jak niespodziewanie dziewczyna pojawia się na spotkaniach ze strzelcem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3586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3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ziewczyna) „Jak ognik nocny przepada.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ównan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pisuje nagły i tajemniczy sposób znikania kochanki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3478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2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gęstej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eszczyny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odkreśla obfitość roślinności, uplastycznia opis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4916520"/>
        </p:xfrm>
        <a:graphic>
          <a:graphicData uri="http://schemas.openxmlformats.org/drawingml/2006/table">
            <a:tbl>
              <a:tblPr/>
              <a:tblGrid>
                <a:gridCol w="2743200"/>
                <a:gridCol w="2451240"/>
                <a:gridCol w="3035160"/>
              </a:tblGrid>
              <a:tr h="13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hardy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łokosie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jawnia stosunek dziewczyny do propozycji młodzieńca i zdradza  jej nieufność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3865680"/>
        </p:xfrm>
        <a:graphic>
          <a:graphicData uri="http://schemas.openxmlformats.org/drawingml/2006/table">
            <a:tbl>
              <a:tblPr/>
              <a:tblGrid>
                <a:gridCol w="3035160"/>
                <a:gridCol w="2451240"/>
                <a:gridCol w="2743200"/>
              </a:tblGrid>
              <a:tr h="121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łowicze wdzięki w mężczyzny głosie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w sercu lisie zamiary.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enośnia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fo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ukazuje, że za pięknymi słowami mężczyzny może się kryć podstęp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3951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2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iekieln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otęgi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podkreśla spo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ób zaklinania się młodzieńca na wszystko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9-15T16:19:55Z</dcterms:created>
  <dc:creator>Dorota</dc:creator>
  <dc:description/>
  <dc:language>en-US</dc:language>
  <cp:lastModifiedBy>Dorota</cp:lastModifiedBy>
  <dcterms:modified xsi:type="dcterms:W3CDTF">2021-09-18T12:47:37Z</dcterms:modified>
  <cp:revision>5</cp:revision>
  <dc:subject/>
  <dc:title>Adam Mickiewicz „Świtezianka”</dc:title>
</cp:coreProperties>
</file>